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45AA-1296-4267-B585-3AB37E04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A492-3D02-4897-AC93-5688D4ED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1BB-19A2-4F2F-8E8E-A969B425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928-CA95-4B04-A1ED-824DEA46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57F5-8C0B-4908-AED5-D6EA6906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388-E438-4B2C-B341-81CCB265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B245-E285-40C8-9F08-195EA7C4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C0E-4524-4BD7-88FF-92CFA4D4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6C1-AFA1-46F6-B1B7-DCD1D2D0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F0B-43C2-46AD-A517-05B4CD70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5673-25C0-4D6D-A18B-BA4D1C18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993F-A573-4336-9F38-0A2D615E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8310-95D2-4799-89A9-7DBD24CBA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s I, II, and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Revi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resent/future – impossi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0" y="1483920"/>
            <a:ext cx="4572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omething is NOT possible now, or in the 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p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n 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would 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he 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spo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inese, he 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would 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a guide in China. (Fact: He doesn’t speak Chinese, so it’s impossibl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2536920"/>
            <a:ext cx="4038480" cy="2651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5445000"/>
            <a:ext cx="25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3120" y="5157720"/>
            <a:ext cx="409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reat Wall of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permission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adcsoft.com/bjigsawpictur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Rules for Conditional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is always “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If he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e, he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would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act: He’s not here, so it’s impossibl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rop the 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by moving the “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to the fr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 here, he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would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wish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pa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ke a hope (which is possible), a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w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ually will not come true. In general, you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w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 miracle, something that is im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w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osta Rica. (I’m not ther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wish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sp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inese. (He doesn’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would r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Would ra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is like Conditional II, wishing for something that is probably im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: Subject 1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would ra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bject 2 (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p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I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would ra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c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ight now. (Fact: He probably won’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would ra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‘d r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I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’d ra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c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ight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ast – impossi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believe” about the past, assuming something that wasn’t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had V3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would have V3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had stud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e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would have pas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exam. (Fact: We didn’t study and we didn’t pass the exam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e “not” g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girl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 look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th ways when she crossed the street, a car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would 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t her. (Fact: She did look both ways, so a car did not hit her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boys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had practi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, they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would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 have l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game. (Fact: They did not practice enough, so they lost the gam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Rules for Conditional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rop the 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by moving the “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to the fr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e, we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would have d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e, we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would have d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reful !!  Although you are starting with a “little verb”, this i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question 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Luck !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 remember to ask yourself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3280" y="1989000"/>
            <a:ext cx="4105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ituation possible or im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ituation in the past or in the present/fu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ur words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ell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mo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) appear in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use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, won’t, would, would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End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al sentences have at least two clauses: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uses and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go into town tomorrow,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will see a mov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poke Chinese,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 would work as a guide in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had been faster,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would have won the 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uses (the condi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uses present th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go into town tomorrow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poke Chine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had been fast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uses (the resul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uses present the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will see a movi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 would work as a guide in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y would have won the 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“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is optional, but the clause is still the result of the condition. So it is a “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clause, without the word “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pecial rules for leaving out the word 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 We will learn them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ur words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ell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mo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) appear in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use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, won’t, would, would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will see it, we will be ang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763640" y="5013360"/>
            <a:ext cx="720720" cy="72072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5013360"/>
            <a:ext cx="649080" cy="72072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I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resent/future – possi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omething is possible now or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es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n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ill 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ud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ill p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eography test. (It is possible !!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nl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o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in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on, w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will mi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nl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in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on, w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will mi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empo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540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Tempor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ime expres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xamples: before, until, after, by the time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refer to the future, they are like Conditional I: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Tempo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esent), will 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Until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r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will 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will ma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ake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y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6:37:15Z</dcterms:created>
  <dc:creator>Baker</dc:creator>
  <dc:description/>
  <dc:language>en-US</dc:language>
  <cp:lastModifiedBy>Baker</cp:lastModifiedBy>
  <dcterms:modified xsi:type="dcterms:W3CDTF">2002-10-27T04:33:51Z</dcterms:modified>
  <cp:revision>38</cp:revision>
  <dc:subject/>
  <dc:title>Conditionals I, II, and III</dc:title>
</cp:coreProperties>
</file>